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270-22B1-46D1-8CBA-E6096C51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E51-D236-4BAE-8997-B354ACDC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5E4-37E2-4326-8422-A97D6765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CE0-27D2-4C8E-B85A-1113D2C1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CDF79-F48B-43F5-8E0B-0CA56B67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CB130-1192-43EF-8A2F-44A773F7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47826-21C8-4A77-8779-F4BEF68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2B731-524E-4C4A-9AFF-8EB8A46A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A6E47-B1C4-4DFC-8FB8-33BB6BB4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6EDD0-D5D5-44A4-922F-F8E22319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50234-0121-4025-9221-69FF6879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164-0AF0-4A5C-96DE-7A871569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2017C-47CE-4E9F-BBB4-235757A0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86871-5651-4560-8489-5C47A6E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8042B-05AB-47C8-A189-011332BD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EF414-E4CC-41F5-BF5B-80EE3A20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DA93E-FDFF-417A-B47A-2C191455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6F2-71C1-4A15-965B-48309DFD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0B9-67B4-4978-A5A6-84A94815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108-AE73-40A3-9F24-2F7561AD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9E3-FEF4-4BF1-8698-BCFF9512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DE7-161D-4505-B486-D2FD1F13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F3F-021B-4C83-ABC4-E990929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61C-EDE2-4041-B2B0-0D344C3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06F8-9636-4E94-894F-32C0E9813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F02D-4BDE-4981-96FB-D3C69C43A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menshealth.about.com/cs/ovarianconditions/a/yrovrisovuovads.htm" TargetMode="External"/><Relationship Id="rId3" Type="http://schemas.openxmlformats.org/officeDocument/2006/relationships/hyperlink" Target="http://www.mamashealth.com/ORGANS/OVARIES.ASP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external image ovaries.jpg&amp;sa=X&amp;ei=eupSTY2yDsycgQffsMigCA&amp;ved=0CAQQ8wc&amp;usg=AFQjCNGFFiiloIRVDC1UBPFc6ZrU8ezvOg"/>
          <p:cNvPicPr/>
          <p:nvPr/>
        </p:nvPicPr>
        <p:blipFill>
          <a:blip r:embed="rId2"/>
          <a:stretch/>
        </p:blipFill>
        <p:spPr>
          <a:xfrm>
            <a:off x="2362320" y="0"/>
            <a:ext cx="4468680" cy="4468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VARI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aries are located in the pelvis, there is one on each side of the uter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external image 161349.jpg"/>
          <p:cNvPicPr/>
          <p:nvPr/>
        </p:nvPicPr>
        <p:blipFill>
          <a:blip r:embed="rId2"/>
          <a:stretch/>
        </p:blipFill>
        <p:spPr>
          <a:xfrm>
            <a:off x="2895480" y="1292400"/>
            <a:ext cx="3353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rmones Produc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t makes bones strong; it lowers cholesterol; it causes the uterus to enlarge during the reproductive cycl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t helps prepare female bodies for conception and pregnancy and regulates the monthly menstrual cycle. It also plays an important role in female sexual desi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external image estrogen.gif&amp;sa=X&amp;ei=DMdaTf22IJDegQeb2KnqDQ&amp;ved=0CAQQ8wc&amp;usg=AFQjCNH3p31OIm98hJRYfbaC7HyH826L1w"/>
          <p:cNvPicPr/>
          <p:nvPr/>
        </p:nvPicPr>
        <p:blipFill>
          <a:blip r:embed="rId2"/>
          <a:stretch/>
        </p:blipFill>
        <p:spPr>
          <a:xfrm>
            <a:off x="0" y="0"/>
            <a:ext cx="201924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external image progesterone-mol.gif&amp;sa=X&amp;ei=zchaTdO2IoLqgAfIv537DQ&amp;ved=0CAQQ8wc&amp;usg=AFQjCNH6Q24BjgfECrdMk341BiqXl19rjA"/>
          <p:cNvPicPr/>
          <p:nvPr/>
        </p:nvPicPr>
        <p:blipFill>
          <a:blip r:embed="rId3"/>
          <a:stretch/>
        </p:blipFill>
        <p:spPr>
          <a:xfrm>
            <a:off x="7238880" y="0"/>
            <a:ext cx="19051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r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Estrogens are produced by developing follicles in the ovaries, the corpus luteum, and the placenta. Luteinizing hormone (LH) stimulates the production of estrogen in the ovar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3516480"/>
            <a:ext cx="35053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it should sta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Without it there is no childr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it there's no hair, nails,Boobs and mo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90920" y="3048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omenshealth.about.com/cs/ovarianconditions/a/yrovrisovuovads.htm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MAMASHEALTH.COM/ORGANS/OVARIES.ASP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REVOLUTIONHEALTH.COM/ARTICLES/SHOULD-I-HAVE-MY-OVARIES-REMOVED-TO-PREVENT-OVARIAN-CANCER/ZX3060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SHAREDJOURNEY.COM/DEFINE/OVA.HTM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ABCNEWS.GO.COM/HEALTH/ONCALLPLUSRISKANDPREVENTION/STORY?ID=365585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26:55Z</dcterms:created>
  <dc:creator>703243</dc:creator>
  <dc:description/>
  <dc:language>en-US</dc:language>
  <cp:lastModifiedBy>703243</cp:lastModifiedBy>
  <dcterms:modified xsi:type="dcterms:W3CDTF">2011-02-16T19:03:01Z</dcterms:modified>
  <cp:revision>2</cp:revision>
  <dc:subject/>
  <dc:title>Slide 1</dc:title>
</cp:coreProperties>
</file>